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8B0-158A-4564-99E3-7AA5C009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F53-E84D-453A-B2A2-649EF08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2F6-DF67-4E4E-A4AF-2935A7CB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B67-ADDE-4F3D-AD38-B55ADD79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098-5A22-4E77-8493-6BF5F84C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5C0-71A2-4D38-858F-DAE46778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D126-BF51-471C-9939-96B11A4F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63EC-0DBF-4CE9-86EA-9D0BC17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A9CB-1E15-41CD-9A07-C7FD674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6B5F-58E8-4BC2-B093-B0D79A83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712D-A057-4455-8D01-A4EB2BA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B54-FACD-4E4C-B3D7-B45420E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FE7C-196D-4B9E-A318-4973401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90D2-0C71-44F3-9BE7-0753F27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B50-FFCC-491D-A290-DFF3969C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6CF-9BCB-42B1-9B90-106D17C6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974C-7AA7-43E2-ADDD-EEC288E1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652-78F0-4C74-AD09-E0DBFC3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3C9-22FD-4CB0-B030-2F93DCB4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C69-5B0F-444F-87C3-216C1C4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CE3-4923-4304-BFF6-FA4EB95F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9CE-836D-4ABB-8AE3-BC29921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69C-E6BD-451F-9F45-2E6453A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C5F-F871-41E3-A900-32F79036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C95-522F-4C8E-AF02-439B43EF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1D95-7D1F-4C47-8A67-906432EA5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ase Study Hwk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troph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i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of chemical nutrients (usually phosphates and nitrates) into an ecosystem (usually aqua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natural or arti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ficia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ural eutroph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thropogenic Cau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tilizer, animal waste, human sewage…running off into a body of water (runoff from a source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fflu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ep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Nutrients stimulate growth of algae and photosynthetic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orm mats that block sunlight to lower levels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Lower algae, plants and photo. bacteria d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These decay and make food for other bacteria which use up the oxygen decomposing the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As dissolved oxygen in the water is depleted, fish and other orgs die (DO is measured in mg/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less than 5 mg/L is considered pollu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e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Lake in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Barrier Reef in Austra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d Zones world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runoff (effluent) from reaching lake, re-route or store in settling po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or stop runof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pollutants and excess nutrients from runoff prior to entering body of water (ie: sewage treatment pl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4:00:41Z</dcterms:created>
  <dc:creator>tosborne</dc:creator>
  <dc:description/>
  <dc:language>en-US</dc:language>
  <cp:lastModifiedBy>infosys</cp:lastModifiedBy>
  <dcterms:modified xsi:type="dcterms:W3CDTF">2015-09-30T15:44:14Z</dcterms:modified>
  <cp:revision>5</cp:revision>
  <dc:subject/>
  <dc:title>Case Study Hwk</dc:title>
</cp:coreProperties>
</file>